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camera.wav" ContentType="audio/x-wav"/>
  <Override PartName="/ppt/media/image4.jpeg" ContentType="image/jpeg"/>
  <Override PartName="/ppt/media/driveby.wav" ContentType="audio/x-wav"/>
  <Override PartName="/ppt/media/image5.jpeg" ContentType="image/jpeg"/>
  <Override PartName="/ppt/media/type.wav" ContentType="audio/x-wav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0BB-DD6E-433A-B0A7-717A9FC8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055-09D5-4348-BFA2-CF8F447C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B8F-AA12-42CB-8808-92FA73A0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319-BFBA-4238-9E46-E03D251E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C90A-6AC4-4F48-BDAB-B93C5BD4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8F02-FD9A-400E-B57F-5B832BC9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9D35-B5D0-46C0-BFB2-BEFA33C4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8F40-17F6-49E4-B02B-8C9C39B7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B20B-6992-4048-8473-AA08E645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570C-8CA7-47C7-9494-DF13B92E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D509-E3B1-4A2B-89B3-188D517A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B63-F5CC-49D1-B29F-CB4CFB54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D002-7537-4A1F-91A2-F40EDF1D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3E3E-FFEB-422B-9C64-59F855BA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FF87-F75F-40F6-8947-720F24B9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4B28-D873-4186-9713-A63B12A7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F921-C047-46F1-990A-30047A43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923-C854-48DF-8782-FD623276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8CFB-461D-4449-955F-F3D34787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DD9-7F4B-4822-A33E-28C4FD8A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C24-F4CB-4D38-B442-5D4F15AD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DFB-124D-43F8-9EBE-33CA481B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8ED-D00C-4F39-A762-04B1D801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C55-9C21-487D-91FE-56822076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6AD2-95D2-4EA2-A7A4-153D1B032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869F-B04B-49F1-B7C2-C8B0FFBAD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21304"/>
                </a:solidFill>
                <a:latin typeface="Bookman Old Style"/>
              </a:rPr>
              <a:t>The Scarlet Letter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y Nathaniel Hawtho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Bookman Old Style"/>
              </a:rPr>
              <a:t>Nathaniel Hawthor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Hawthorne once said: “I do not want to be a doctor and live by man’s diseases, nor a minister to live by their sins, nor a lawyer and live by their quarrels.  So, I don’t see that there is anything left for me but to be an author.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3429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Bookman Old Style"/>
              </a:rPr>
              <a:t>About the Auth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33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Born July 4, 1804 in Salem, M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eclusive at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rved as a magazine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Worked in the Salem Custom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Lived at Brook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Wrot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wice-Told Tales, The House of Seven Gables, The Scarlet Letter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Married Sophia Peabody and fathered Una (who became the model for Pear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erved as the United States Consul to Liverp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Died in 1864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Buried in Concord, Massachuset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Great-great-great-great grandfather, John Hathorne, was judge at Salem witch tri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Bookman Old Style"/>
              </a:rPr>
              <a:t>The Custom Hou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Hawthorne claims to have gotten the idea for this novel from the paper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Jonathan Pue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.  Among the papers, Hawthorne allegedly found an embroider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scarlet A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informatio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on Hester Pryn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65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Bookman Old Style"/>
              </a:rPr>
              <a:t>Historical Contex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Boston Colony founded i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16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John Winthrop (lea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Puritans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wanted to “purify” the Church of England of all traces of Catholicism in liturgy, theology, and church organiz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Recognize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Bible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as the sole source of religious auth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Maintained a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theoc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Believed in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predestination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or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Doctrine of the 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Inflict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public punishments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to deter others from straying from righteousness (hanging, whipping, humiliation, etc,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038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Bookman Old Style"/>
              </a:rPr>
              <a:t>Plot/Set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novel is set in the mid 1600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Boston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, Massachuset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plot encompass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seven year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plot involves the love triangl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wife-lover-husband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e major theme of the novel is developed in the contex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good vs. evil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4" dur="1" fill="hold"/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Bookman Old Style"/>
              </a:rPr>
              <a:t>Point of Vie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Third-Person Omniscient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…Hawthorne reveals the inner and outer workings of the characters and provides social criticism, history, and psych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Bookman Old Style"/>
              </a:rPr>
              <a:t>Charact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Hester Prynne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- wearer of the scarlet let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Pearl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- child of Hester; living symbol of Hester’s s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Roger Chillingworth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- learned scholar; doc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Arthur Dimmesdale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- admired young minis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Governor Bellingham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- governor and magistrate of Massachusetts Bay Colo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Rev. John Wilson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- senior minister of colo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Mistress Hibbins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- Gov. Bellingham’s sis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6" dur="1" fill="hold"/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Bookman Old Style"/>
              </a:rPr>
              <a:t>Major Symbol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scarlet letter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itself is the central symbol. 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changes meanin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for the characters in the novel as Hester’s character changes.  The A becomes a pathway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redemption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for some characters as well.  Watch the many ways Hawthorne uses the scarlet A as a symbo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617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7T22:58:27Z</dcterms:created>
  <dc:creator>ckandmwhays</dc:creator>
  <dc:description/>
  <dc:language>en-US</dc:language>
  <cp:lastModifiedBy>BPS</cp:lastModifiedBy>
  <dcterms:modified xsi:type="dcterms:W3CDTF">2010-10-05T00:17:24Z</dcterms:modified>
  <cp:revision>16</cp:revision>
  <dc:subject/>
  <dc:title>The Scarlet Letter </dc:title>
</cp:coreProperties>
</file>